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3ED-7079-4F03-9A79-4A306A87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BB61-E440-46FD-AF4D-B275DCC7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3C61-7DBC-4250-9CDD-D5F9D0A3B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6E1-D1BD-4DD6-B56E-7DDA9EAF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DD8C-957A-4BD9-9FBF-4E05BBA97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819C-5FAC-45D2-A418-3DA043B7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F2F3-1368-41E4-A51F-09051690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1F532-4CE7-495B-A94B-A84EB183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4D063-4F8D-490C-BF90-76C2572D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3785-8CDE-4B13-BE94-33DCED9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EC9E-7A3C-410A-9ED0-16DC47D7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A5D-76D5-40C9-B14F-DF3A3337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8698-E62C-4115-B739-B32ACF09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3123-1A22-4421-96CC-69524544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2CB3-2487-4341-B027-B2C1F810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5A54-58D9-43AD-9815-CF6E3D3A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5309-DB5B-4DD8-80CA-8B9FA49C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71BDC-ACC8-4EBE-A117-483E9E09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D6B47-CEB4-4A29-ADA1-D1DC539EE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1CC59-C52C-43C1-B8F6-16AC24ED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83BF8-B097-4908-8CAF-FA6503C0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0EC54-3105-4A7E-AFDA-CE2211D5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515-9E6A-4AE7-9AF4-3C311836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BC4B8-4D12-4C2C-A241-DF9C6EB6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9F630-B61D-4307-BCE0-D2EF7332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8011F1-0437-4956-9A10-F0C02558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25FC93-3D52-46BE-BDFB-39D1146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E3BE9-4EDD-44CD-8A5D-2F4069E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269E3-B423-4370-8BE4-A9411FA7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E64D7-E6D7-4C29-8BE9-93E3FB3C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BD18C5-DFFD-4403-97A6-A99B444F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32F546-24DE-4C30-B71E-7B4AEC58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CBCEB-4D1B-4276-9CE1-C2EFF129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2851-1852-4778-BB12-E09AD506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375451-5D1B-4B65-B3F4-0D8E6ED6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4810B8-D102-46AD-8E81-7C004518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99C8CB-6385-4CC2-9843-211F45E7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1ACA1-F8BB-4311-9F07-A09E7EB6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5FD03B-97A1-4CFA-81C1-BE3F60922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A6EAE-6892-4736-9864-B489464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E91330-77EF-4B54-846F-974B966B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C07723-4C21-40BF-96CE-E786C9E26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759E65-E67F-4CFE-A161-39D5AF01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BBB1CF-449F-4DE8-B74F-02221134D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9D1-B863-46A7-8F4B-66F83E4B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2BA1C-4EA6-4FE0-AA1C-8712511E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8BB9D3-D6C1-45BB-A58A-FF669370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4E0F70-5C2D-4AE1-A435-90D3EECF3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9B684-765B-4CE8-9F61-C57B61F7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E6CBC-0E85-49D3-A0EB-CC68CCBB9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A1B9D2-EEF0-40CC-8203-26043FDE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DAB4B3-B2E4-4107-BBE3-345099C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06EA5-68D1-4E1C-91F7-F4049496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3FFBD0-B772-48FB-89E4-B250B12C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553614-232A-4574-BED8-F724CAE1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DFA-96E4-40E0-9BE7-3A9FDEDE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A8E5AE-906A-4193-A749-CF42B7C2F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DB35C-3D9B-43C6-881C-A7B2F426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CFD46-E577-483B-812B-6811128E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9A66-5F0A-4FBC-A5BC-D22AD599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1B5E-812E-422B-BBC1-17B635DC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0DF62-20AA-4EAB-BDB8-4645A51D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31014-E127-4C7C-BD8E-E881F40F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50B10-5070-4D85-8910-A4C25FBA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C515-E982-4203-9BA7-8432227E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7D910-3CB1-45FE-B7AA-2542612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3398-4CC7-47E0-8AC3-1BEB73B8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75BDB-FE6F-4BDD-8B89-C908E69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059BD-66CA-445B-A33B-08F408D3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60BFB-444A-4796-91A9-F7CBD6FF8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EEB7FE-BA40-47F6-802F-9F0CD8A3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4CAFC-607E-429B-8C39-55A1306A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40AC3A-2B88-44C6-A6EA-F7855B2F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58806-879C-4B12-9119-AA3318A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AF198-A435-480D-AE29-2AA2D613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830AF4-7FD6-47A6-AB03-E51A3968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FA702E-E871-4D38-88C8-4DB4FD78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B53-91BE-4F01-A5D6-4E2121F0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2295E-EE68-4ADD-8F1E-58237C53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0789CC-B4D9-4257-ACB3-586A17D3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4B8038-9BF6-4F26-8FC6-069824CF9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2B6525-B692-4D75-83C6-C4D45EE8F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5700B-DA36-4F41-9CD8-0B354906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8E32D-D00C-4399-9968-88549DE2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38CEC-62C9-4976-8956-8E4C2EE1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B1736-E600-4908-8BA1-7473B559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8EE9F-C6BE-47BE-B0C2-79249B50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F5067-5376-4D5A-A717-FC53444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964-5B49-4FC3-8721-C82EBBC4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B49ED-C630-414A-A987-D5B1623B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A6856-80EF-4F52-AF9D-112F5B54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B2D97-5E37-4249-8596-5BB8AA22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57DB-3F09-48CF-ADDB-29D522E58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848A8-CED6-4D1F-9C1C-3CAF9FBB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88E83-D6FB-4613-A875-0A574F01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B626E-052E-489A-82AA-2F48D5E6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DAA8-5EEB-4BFB-89AF-4B5EA24DEC4D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94C3-7B8D-48C0-AD35-6815E8A958C4}" type="slidenum">
              <a:rPr b="1" lang="en-NZ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AC0C-2BAE-4116-A511-38AE9E7C44C4}" type="slidenum">
              <a:rPr b="1" lang="en-N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577A-995E-479B-AA18-8F3C1D60C044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EE23-C4F5-474A-AFCD-B2876AB5E925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913BB-FAD4-473C-9AAC-80D917DDF3DB}" type="slidenum">
              <a:rPr b="1" lang="en-NZ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1757-DFC0-4CDC-8C5F-091FAE90B83D}" type="slidenum">
              <a:rPr b="1" lang="en-NZ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N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8424-2C74-4F39-B704-C97CDB69F4E7}" type="slidenum">
              <a:rPr b="1" lang="en-N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johndclare.net/cold_war3_ideologicaldifferences.html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0826/yalta.htm" TargetMode="External"/><Relationship Id="rId2" Type="http://schemas.openxmlformats.org/officeDocument/2006/relationships/hyperlink" Target="http://library.thinkquest.org/10826/greek.htm" TargetMode="External"/><Relationship Id="rId3" Type="http://schemas.openxmlformats.org/officeDocument/2006/relationships/hyperlink" Target="http://library.thinkquest.org/10826/berlin.htm" TargetMode="External"/><Relationship Id="rId4" Type="http://schemas.openxmlformats.org/officeDocument/2006/relationships/hyperlink" Target="http://library.thinkquest.org/10826/nato.htm" TargetMode="External"/><Relationship Id="rId5" Type="http://schemas.openxmlformats.org/officeDocument/2006/relationships/hyperlink" Target="http://library.thinkquest.org/10826/berlin.htm" TargetMode="External"/><Relationship Id="rId6" Type="http://schemas.openxmlformats.org/officeDocument/2006/relationships/hyperlink" Target="http://library.thinkquest.org/10826/korea.htm" TargetMode="External"/><Relationship Id="rId7" Type="http://schemas.openxmlformats.org/officeDocument/2006/relationships/hyperlink" Target="http://library.thinkquest.org/10826/rosenber.htm" TargetMode="External"/><Relationship Id="rId8" Type="http://schemas.openxmlformats.org/officeDocument/2006/relationships/hyperlink" Target="http://library.thinkquest.org/10826/korea.htm" TargetMode="External"/><Relationship Id="rId9" Type="http://schemas.openxmlformats.org/officeDocument/2006/relationships/hyperlink" Target="http://library.thinkquest.org/10826/vietnam.htm" TargetMode="External"/><Relationship Id="rId10" Type="http://schemas.openxmlformats.org/officeDocument/2006/relationships/hyperlink" Target="http://library.thinkquest.org/10826/berlin.htm" TargetMode="External"/><Relationship Id="rId11" Type="http://schemas.openxmlformats.org/officeDocument/2006/relationships/hyperlink" Target="http://www.snopes.com/disney/nikita.htm" TargetMode="External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library.thinkquest.org/10826/pigbay.htm" TargetMode="External"/><Relationship Id="rId2" Type="http://schemas.openxmlformats.org/officeDocument/2006/relationships/hyperlink" Target="http://library.thinkquest.org/10826/berlin.htm" TargetMode="External"/><Relationship Id="rId3" Type="http://schemas.openxmlformats.org/officeDocument/2006/relationships/hyperlink" Target="http://library.thinkquest.org/10826/berlin.htm" TargetMode="External"/><Relationship Id="rId4" Type="http://schemas.openxmlformats.org/officeDocument/2006/relationships/hyperlink" Target="http://library.thinkquest.org/10826/vietnam.htm" TargetMode="External"/><Relationship Id="rId5" Type="http://schemas.openxmlformats.org/officeDocument/2006/relationships/hyperlink" Target="http://library.thinkquest.org/10826/cuba.htm" TargetMode="External"/><Relationship Id="rId6" Type="http://schemas.openxmlformats.org/officeDocument/2006/relationships/hyperlink" Target="http://library.thinkquest.org/10826/vietnam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bddc3"/>
                </a:solidFill>
                <a:latin typeface="Tw Cen MT"/>
              </a:rPr>
              <a:t>THE COLD WAR REVI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Tw Cen MT"/>
              </a:rPr>
              <a:t>IGCSE HISTORY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2" name="Rectangle 2"/>
          <p:cNvSpPr/>
          <p:nvPr/>
        </p:nvSpPr>
        <p:spPr>
          <a:xfrm>
            <a:off x="3744000" y="-1897920"/>
            <a:ext cx="1656000" cy="42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Cold War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1945-1960</a:t>
            </a:r>
            <a:endParaRPr b="0" lang="en-US" sz="13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7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77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Tw Cen MT"/>
            </a:endParaRPr>
          </a:p>
        </p:txBody>
      </p:sp>
      <p:grpSp>
        <p:nvGrpSpPr>
          <p:cNvPr id="353" name="Group 1"/>
          <p:cNvGrpSpPr/>
          <p:nvPr/>
        </p:nvGrpSpPr>
        <p:grpSpPr>
          <a:xfrm>
            <a:off x="285840" y="428760"/>
            <a:ext cx="8571960" cy="3604680"/>
            <a:chOff x="285840" y="428760"/>
            <a:chExt cx="8571960" cy="3604680"/>
          </a:xfrm>
        </p:grpSpPr>
        <p:pic>
          <p:nvPicPr>
            <p:cNvPr id="354" name="Picture 3" descr="http://users.erols.com/mwhite28/images/coldwar2.gif"/>
            <p:cNvPicPr/>
            <p:nvPr/>
          </p:nvPicPr>
          <p:blipFill>
            <a:blip r:embed="rId1"/>
            <a:stretch/>
          </p:blipFill>
          <p:spPr>
            <a:xfrm>
              <a:off x="285840" y="428760"/>
              <a:ext cx="8571960" cy="36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Oval 4"/>
            <p:cNvSpPr/>
            <p:nvPr/>
          </p:nvSpPr>
          <p:spPr>
            <a:xfrm>
              <a:off x="7695720" y="3191040"/>
              <a:ext cx="285480" cy="243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pic>
        <p:nvPicPr>
          <p:cNvPr id="356" name="Picture 5" descr="http://users.erols.com/mwhite28/images/coldwar3.gif"/>
          <p:cNvPicPr/>
          <p:nvPr/>
        </p:nvPicPr>
        <p:blipFill>
          <a:blip r:embed="rId2"/>
          <a:stretch/>
        </p:blipFill>
        <p:spPr>
          <a:xfrm>
            <a:off x="2571840" y="4286160"/>
            <a:ext cx="4500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Cold War them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Ask yourself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at is meant by ‘cold war’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y did the Cold War begin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Who was to blame and why? Specific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Did the world really come close to nuclear disaster?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Ideological differenc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2928960"/>
            <a:ext cx="81532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johndclare.net/cold_war3_ideologicaldifferences.htm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775f55"/>
                </a:solidFill>
                <a:latin typeface="Tw Cen MT"/>
              </a:rPr>
              <a:t>TIMELIN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500040" y="713880"/>
            <a:ext cx="8429760" cy="53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February 4-11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Yalta Conferenc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Cold War Begi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6 -- United States first used atomic bomb in wa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8 -- Russia enters war against Japa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5: August 14 -- Japanese surrender End of World War II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6: March -- Winston Churchill delivers "Iron Curtain" Speech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7: March -- Truman declares active role in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Greek Civil War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7: June -- Marshall Plan is announc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8: February -- Communist takeover in Czechoslovaki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8: June 24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Berlin Blockad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begi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NATO ratifi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May 12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Berlin Blockade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end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September -- Mao Zedong, a Communist, takes control of China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49: September -- Soviets explode first atomic bomb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0: February -- Joe McCarthy begins Communist witch hunt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0: June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Korean War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begins1953: June 19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7"/>
              </a:rPr>
              <a:t>Rosenberg execution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3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8"/>
              </a:rPr>
              <a:t>Korean War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ends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4: July --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9"/>
              </a:rPr>
              <a:t>Vietnam</a:t>
            </a: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 split at 17th parallel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5: May -- Warsaw Pact forme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6: October - November -- Rebellion put down in Communist Hungary. Egypt took control of Suez Canal; U.S. refused to help take it back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8: November -- Khrushchev demands withdrawal of troops from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0"/>
              </a:rPr>
              <a:t>Berlin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9: January -- Cuba taken over by Fidel Castro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Tw Cen MT"/>
              </a:rPr>
              <a:t>1959: September -- Khrushchev visits United States; denied access to </a:t>
            </a:r>
            <a:r>
              <a:rPr b="0" lang="en-NZ" sz="1200" spc="-1" strike="noStrike" u="sng">
                <a:solidFill>
                  <a:srgbClr val="f7b615"/>
                </a:solidFill>
                <a:uFillTx/>
                <a:latin typeface="Tw Cen MT"/>
                <a:hlinkClick r:id="rId11"/>
              </a:rPr>
              <a:t>Disneyland</a:t>
            </a: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  <a:p>
            <a:pPr marL="264600" indent="-264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0004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0: May -- Soviet Union reveals that U.S. spy plane was shot down over Soviet territ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0: November -- John F. Kennedy elected Presid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pril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Bay of Pigs invasion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July -- Kennedy requests 25% spending increase for milita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ugust 13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Berlin border clo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1: August 17 -- Construction of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3"/>
              </a:rPr>
              <a:t>Berlin Wall</a:t>
            </a: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 begin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2: -- U.S. involvement in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4"/>
              </a:rPr>
              <a:t>Vietnam increas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2: October --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5"/>
              </a:rPr>
              <a:t>Cuban Missile Crisi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3: July -- Nuclear Test Ban Treaty ratified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3: November -- President Kennedy assassinated in Dallas, Texa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4: August -- Gulf of Tonkin inciden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5: July -- Announcement of dispatching of 150,000 U.S. troops to </a:t>
            </a:r>
            <a:r>
              <a:rPr b="0" lang="en-NZ" sz="2000" spc="-1" strike="noStrike" u="sng">
                <a:solidFill>
                  <a:srgbClr val="f7b615"/>
                </a:solidFill>
                <a:uFillTx/>
                <a:latin typeface="Tw Cen MT"/>
                <a:hlinkClick r:id="rId6"/>
              </a:rPr>
              <a:t>Vietnam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Tw Cen MT"/>
              </a:rPr>
              <a:t>1968: August -- Soviet troops crush Czechoslovakian revol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8760" y="1643040"/>
            <a:ext cx="8501040" cy="555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73: January -- Cease fire in Vietnam between North Vietnam and United Stat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75: April 17 -- North Vietnam defeats South Vietnam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5: -- Mikhail Gorbachev ascends to power in Soviet Union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6: -- Gorbachev ends economic aid to Soviet satellite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6: October -- Reagan and Gorbachev resolve to remove all intermediate nuclear missiles from Europe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7: October -- Reagan and Gorbachev agree to remove all medium and short-range nuclear missiles by signing treaty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June -- China puts down protests for democracy; Poland becomes independen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September -- Hungary becomes independent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November -- Berlin Wall fall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89: December -- Communist governments fall in Czechoslovakia, Bulgaria, and Rumania; Soviet empire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0: October 3 -- Germany reunited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1: April -- Warsaw Pact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Tw Cen MT"/>
              </a:rPr>
              <a:t>1991: August -- End of Soviet Union </a:t>
            </a:r>
            <a:r>
              <a:rPr b="1" lang="en-NZ" sz="1600" spc="-1" strike="noStrike">
                <a:solidFill>
                  <a:srgbClr val="ff0000"/>
                </a:solidFill>
                <a:latin typeface="Tw Cen MT"/>
              </a:rPr>
              <a:t>Cold War Ends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775f55"/>
                </a:solidFill>
                <a:latin typeface="Tw Cen MT"/>
              </a:rPr>
              <a:t>The Early Years of the Cold W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3214440"/>
            <a:ext cx="815328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Tw Cen MT"/>
              </a:rPr>
              <a:t>http://www.schoolhistory.co.uk/lessons/superpower/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3928680"/>
            <a:ext cx="8153280" cy="21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http://www.johndclare.net/FactualRevise_5.htm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2786040"/>
            <a:ext cx="8153280" cy="33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900" spc="-1" strike="noStrike">
                <a:solidFill>
                  <a:srgbClr val="000000"/>
                </a:solidFill>
                <a:latin typeface="Tw Cen MT"/>
              </a:rPr>
              <a:t>Examples of Paper 1 Questions..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4T13:12:22Z</dcterms:created>
  <dc:creator>Rachel</dc:creator>
  <dc:description/>
  <dc:language>en-US</dc:language>
  <cp:lastModifiedBy>redwards</cp:lastModifiedBy>
  <dcterms:modified xsi:type="dcterms:W3CDTF">2008-04-25T05:21:04Z</dcterms:modified>
  <cp:revision>6</cp:revision>
  <dc:subject/>
  <dc:title>THE COLD WAR REVISION</dc:title>
</cp:coreProperties>
</file>